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9BF3-2AB4-4D07-BF0D-F9618B4EFE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6832-AE15-4761-B188-956D0FF463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A673-6C87-49A5-8FC6-97241DCC99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61D-A598-4371-A1D2-E1438438FE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2F50-CDB2-4582-8D49-6F51559397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8C1D-19DC-420A-9B57-EB03855AB8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4BC4-BCFF-4F0C-A083-DA44A9BC1F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D38-2952-4777-B2D5-AB65207EE0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2129-974B-4804-81B1-32A7F5ED38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3012-BB49-403C-8A2A-37292A2300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BFDD-23DC-466D-B230-DE007ED102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EC13-5425-45C0-AABA-838C76A5EE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587-BFB5-408B-8D4C-C591CE4C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B94-ED94-4FB6-877B-DE345231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FD5-0AB9-48D8-AAD7-26325849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DD4-4215-4745-BB0E-310D0D41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418-ECBC-4D87-894E-46FBEECE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5F6-E846-444B-9FFD-2E1BC5A9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A70-410A-4FEA-B453-CD350AD4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AB3-E5E7-4C7B-BCDD-7B3665D1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17F-F288-45E4-802F-6750657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E7F-526A-4E22-9D08-921900AC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E0C-7C67-4A3C-95CE-5B85B51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174-A278-4065-BD48-043334B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D26-361A-481A-96B5-7A22EF2BD594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28DC-338A-4221-9F4B-7122BFBC79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AC78-0822-49B5-91CD-70249E9399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ÉXITO AL TRANSITAR DE UNA ETAPA A OTRA EN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ROL DE LAS ORGANIZACIONES PARA EL ÉXITO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B167-2907-43C6-B9E3-FE229D8A42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O CONTRIBUYEN LAS OSC AL ÉXITO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 sido posible por medio de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portes como organización provee el marco de pertenencia y soporte y capac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s OSC con las que colaboran los voluntarios proveen el marco de actu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emos sido condicionados a valorar el alcanzar resultados como medida de nuestro éxito: los proyectos exitosos son la med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os logros de los proyectos y el contacto continuo con las OSC prolongan en el tiempo esta forma de retribución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0C21-97C0-4EC8-9AA6-AD7904E581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F158-BAEF-43B6-AEE4-40EF729E81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fesionales que están terminando su etapa de vida profesional acti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Unos retirados, otros retirándose, otros exitosos que pueden disponer de tiempo para otras c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emos el retiro con preocupación : ¿qué hac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mo mantenerse activo intelectualmente: golf y nietos no son actividades sufic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¿DE QUIÉNES ESTAMOS HABLA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B59E-2DE1-47B2-B18F-8DCBB5FB0A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egún la Real Academia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76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 Resultado feliz de un negocio, actuación, 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4976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 Buena aceptación que tiene alguien o al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497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 Fin o terminación de un negocio o asun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provechar la exper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tribuir al bienestar de 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tar en paz consigo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¿QUÉ ES EL ÉXI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527C-AA4D-4294-89DD-969943FDBF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Una OSC que hace consultoría para otras organizaciones de la sociedad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oyectos de mejora en la Gestión para lograr mejorar el impacto de estas OSC en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PORTE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E GESTIÓN PARA EL TERC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portes de Gestión"/>
          <p:cNvPicPr/>
          <p:nvPr/>
        </p:nvPicPr>
        <p:blipFill>
          <a:blip r:embed="rId3"/>
          <a:stretch/>
        </p:blipFill>
        <p:spPr>
          <a:xfrm>
            <a:off x="6572160" y="3645000"/>
            <a:ext cx="2571840" cy="79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6811200" y="4581360"/>
            <a:ext cx="20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www.aportesdegestion.org.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0E9C-5AB3-40FB-88BC-30234DB39C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oluntarios que han decidido emplear parte de su tiempo disponible ayudando o 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fesionales con mas de 15/ 20 años en posiciones de gerencia y dirección en 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tirados o en una etapa donde planean cómo transcurrir su etapa de ret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Tienen tiempo disponible de su profesión y quieren hacer algo dist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Un reducido staff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327-1C65-49AE-92F9-F11594D064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la etapa de desarrollo de su personal las empresas lo hac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apacit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teando desafí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ando un proyecto para el desarrollo de las potencia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formando a un grupo humano para lograr objetivos comu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ÓMO ASEGURAR EL ÉXITO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4A1A-74CD-4AE3-94C6-55C15FEA1B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la etapa de la madurez en A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apacitando mediante talleres – para la nueva a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teando desafíos – ingresar a un ambiente dist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ando un lugar para el aprovechamiento de las potencialidades perfeccionadas en el mundo del trabajo profesional ren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ando lugar a un grupo humano para lograr nuevos objetivos comunes con una mirada distinta sobre el problema de la sociedad mod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ÓMO LA ORGANIZACIÓN CONTRIBUYE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 ÉXITO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CAE2-15B0-4708-A75C-71FE8B20DE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redefinición de la comisión directiva de una ONG, sus roles y fun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niciativas de Recursos Humanos donde se realizó el rediseño de funciones y responsabilidades, el replanteo de las formas de remuneración, y la definición de perfiles de puestos cl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construcción de un plan estratég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a selección y supervisión de la implementación de sistemas infor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l desarrollo de planes de crecimi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es económico-financieros. Evaluación de adquisi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ificación y desarrollo de negocios sociales como parte de la sustentabilidad de la O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tructuración, organización y planeamiento de los procesos operativ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finición de indicadores de gestión y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GUNOS TIPOS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CD1F-F933-490F-A3A2-E45D242AA0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234936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os voluntarios han trabajado aplicando su experiencia y conocimi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emos ayudado y logrado transformaciones importantes en algunas organizaciones: tenemos una enorme cantidad de proyectos exito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os voluntarios se sienten comprometidos con las OSC a las que ayudan, quedan ami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entimos todos que estamos ayudando en nuestra medida a hacer que la sociedad esté un poco mej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os voluntarios encuentran que el trabajo en Aportes y las organizaciones les produce una enorme satisfac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HEMOS TENIDO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1762560" y="6461280"/>
            <a:ext cx="59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 Congreso Internacional de Administración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585320" y="1197000"/>
            <a:ext cx="410040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provechar la exper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ntribuir al bienestar de 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ar en paz consigo m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Hernán Castillejo</cp:lastModifiedBy>
  <dcterms:modified xsi:type="dcterms:W3CDTF">2013-08-27T15:51:27Z</dcterms:modified>
  <cp:revision>12</cp:revision>
  <dc:subject/>
  <dc:title>Diapositiva 1</dc:title>
</cp:coreProperties>
</file>